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crophage resistance to Fas-mediated apoptosis is associated with Flip expression. (A) Macrophages are resistant to Fas-induced apoptosis. Triplicate cultures of macrophages differentiated for 7 d in 20% FBS/polymixin B were treated with activating anti-Fas mAb (250 ng/ml), control Ig, or TNF-α (10 ng/ml) for 1 d, fixed in 70% ETOH, and incubated in PI (50 μg/ml) for flow cytometry analysis to determine hypodiploid DNA content. Parallel cultures were incubated with Rh123 (0.1 μg/ml) for 30 min before analysis by flow cytometry. The results represent a mean of three experiments. (B) Flip is upregulated in macrophages. Whole cell extracts (25 μg) were prepared from peripheral blood monocytes and macrophages cultured in 20% FBS/RPMI/1 μg/ml polymyxin B and isolated at the indicated times. Extracts were subjected to SDS-PAGE on 12.5% polyacrylamide gels. Gels were transferred to Immobilon P for immunoblot analysis with anti-Flip. The anti-Flip immunoblot is a representative of 10 individuals. (C) Flip transcript levels are upregulated during monocyte to macrophage differentiation. RT-PCR analysis was performed on total RNA, and the 1,470-bp FlipL, 620-bp FlipS, and 838-bp β-actin amplified fragments were fractionated on 1.0% agarose gel and visualized by ethidium bromide stai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ip overexpression rescues GFP-positive U937 cultures from Fas-mediated cell death. U937 cultures were transfected with 2 μg of the CMV-EGFP–expressing plasmid and either expression vectors 4, 6, or 8 μg of CMV-FlipL or CMV-FlipS using FuGENE™. Empty CMV vector was added to transfections to yield a total of 10 μg of DNA per transfection. After transfection, cultures were incubated in 20% FBS/RPMI for 12 h and treated with agonistic anti-Fas antibody (500 ng/ml) for an additional 12 h. U937 cells were collected, and EGFP-expressing cells were quantified by flow cytometry. Nonviable cells were excluded by PI incorporation. Before addition of Fas agonistic antibody, ∼6,000 GFP-positive cells were observed. The data are representative of two independent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ice-Inhibitory Protein Expression during Macrophage Differentiation Confers Resistance to FAS-Mediated Apop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Harris Perlman, Lisa J. Pagliari, Constantinos Georganas, Toshiaki Mano, Kenneth Walsh, and Richard M. P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90(11):1679-16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ecember 6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800" y="2179800"/>
            <a:ext cx="8604360" cy="319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5240" y="1079640"/>
            <a:ext cx="38149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5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54320" y="1079640"/>
            <a:ext cx="37767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54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1108080"/>
            <a:ext cx="8604360" cy="533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817640"/>
            <a:ext cx="8604360" cy="391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phage resistance to Fas-mediated apoptosis is associated with Flip expres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33760" y="1079640"/>
            <a:ext cx="3017880" cy="5394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33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ip overexpression rescues GFP-positive U937 cultures from Fas-mediated cell death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39800" y="1887480"/>
            <a:ext cx="8604360" cy="3778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33600" y="1079640"/>
            <a:ext cx="701820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336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01160" y="7199280"/>
            <a:ext cx="838080" cy="32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7720" y="1079640"/>
            <a:ext cx="8589960" cy="539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7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arris Perlman et al. J Exp Med 1999;190:1679-16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1999 The Rockefeller University P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